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464-E66A-4CCE-93DC-A038F4D2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E19-C044-4FFF-A650-9439F86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DB3-66E2-401A-8AD0-F518D4E8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4B-0DAD-4DDD-BAE0-28B65D51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2EBE-68A2-4CFE-8519-CC84586B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2F0-F9C0-41D2-A1EC-ACD1E56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276-9EA2-4BED-9ECC-1F048B1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9372-AB52-464F-88EC-99B6A3E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682-1846-416B-910D-B8EAA08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5860-6696-4409-AC7F-78E95D7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AC3B-FAED-4D35-A60B-C034EC2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421-D6B9-4B6B-98A2-0684F9FB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AB94-4BFA-4F9C-A97F-B2F05EC8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2422-8B22-4E63-A8A6-39B8219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D3F0-B6D3-41E4-934E-7F882A7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DB8F-DA8D-4477-B825-35DE7F9E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2624-4776-4C2B-9ED9-CABA1CFF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EE4-6EC2-420A-97F2-66B11FB6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541-68D0-42B7-96F2-2AA81A8E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DEA-3908-4429-B890-5D0F628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82D-F20E-4353-AB3F-59CF002F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457-FDD1-419D-8B99-EE4388C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524-02F0-4BEA-840F-6F06EC5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61E-66B2-427D-BBBA-2C128F5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6E9-2389-4E73-AB83-042EC14FA5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82D-76B6-48A1-927B-042A9273805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lley View Middle Sch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SA Endeavou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diation Experiment Resul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order to learn more about electromagnetic radiation, we participated in a series of experiments using all different types of radiation and materials. The results are listed on the next few pag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sibl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80880" y="1371600"/>
          <a:ext cx="8229600" cy="4106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025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5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ltraviol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ar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1110960"/>
                <a:gridCol w="1109520"/>
                <a:gridCol w="1110960"/>
                <a:gridCol w="1109520"/>
                <a:gridCol w="1110960"/>
                <a:gridCol w="1109520"/>
                <a:gridCol w="1110960"/>
              </a:tblGrid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ypes of Paper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ear 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um.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oil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el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lastic Bag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ylar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27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ults of Radiation Experim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=Transmitter S=Shiel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conclusion, we learned that there are a lot of different types of electromagnetic radiation. Some radiation waves are more powerful than oth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experiment was both fun and education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6:36:43Z</dcterms:created>
  <dc:creator>vv</dc:creator>
  <dc:description/>
  <dc:language>en-US</dc:language>
  <cp:lastModifiedBy>vv</cp:lastModifiedBy>
  <dcterms:modified xsi:type="dcterms:W3CDTF">2009-11-13T07:11:20Z</dcterms:modified>
  <cp:revision>2</cp:revision>
  <dc:subject/>
  <dc:title>Valley View Middle School</dc:title>
</cp:coreProperties>
</file>